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4.png" ContentType="image/png"/>
  <Override PartName="/ppt/media/image25.wmf" ContentType="image/x-wmf"/>
  <Override PartName="/ppt/media/image3.png" ContentType="image/png"/>
  <Override PartName="/ppt/media/image17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7943-F7DC-4E22-8DE2-BDAB0A03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7839-15B9-4AA9-A69B-A6F10B60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AF14-9733-4FD1-8EAD-686644F5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8F6C-6CD0-4A9D-BAFA-FF7B74F7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F36A-11F8-4580-8C7C-BC380F9C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D6A2-F450-47BD-A274-E336815C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4C75-4595-41FB-A09E-949F23E9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1620-AEB8-4583-9E62-4BA91680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32A8-9B14-4CF7-94BC-253A4003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2DF8-AAC6-43C9-9F6C-0D97AE81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62FC-53C4-4C31-AFBE-7D551149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4F07-5346-406E-A0A1-B3E896E3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7845-F9D3-441C-825A-1462F3185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84360" y="3240"/>
            <a:ext cx="1051272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6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 PROJETO PIRAT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amp; sua importância para o Bras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4920" y="4508640"/>
            <a:ext cx="8077320" cy="20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ulo No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PTEC/IN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Reunião do Comitê Nacional do Projeto PIRATA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rtaleza, 28-29 de julho d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dos da bóia 12N 38W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níveis na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16240" y="1052640"/>
            <a:ext cx="4643280" cy="5805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157800" y="1052640"/>
            <a:ext cx="892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 26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71640" y="925560"/>
            <a:ext cx="7416720" cy="5932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012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servações TSM in situ (GTS)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JA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r que uma rede de observaçõ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bre o Atlântico Tropic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riabilidade climática sobre o Brasil é modulada pelas temperaturas da superfície do mar sobre o Atlântico Tropi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hecimento antecipado das TSMs sobre o Atlântico Tropical representa hoje o limitador mais crítico para a geração de previsões climáticas para o Nordes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ual Mean Precipit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m/d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1677960"/>
          <a:ext cx="914400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7960"/>
                    <a:ext cx="914400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7164000" y="6172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Times New Roman"/>
              </a:rPr>
              <a:t>Nobre, 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1332000" y="981000"/>
            <a:ext cx="6511680" cy="5572080"/>
            <a:chOff x="1332000" y="981000"/>
            <a:chExt cx="6511680" cy="557208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1332000" y="981000"/>
              <a:ext cx="6511680" cy="557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"/>
            <p:cNvGrpSpPr/>
            <p:nvPr/>
          </p:nvGrpSpPr>
          <p:grpSpPr>
            <a:xfrm>
              <a:off x="3182760" y="1646280"/>
              <a:ext cx="3613320" cy="4046400"/>
              <a:chOff x="3182760" y="1646280"/>
              <a:chExt cx="3613320" cy="4046400"/>
            </a:xfrm>
          </p:grpSpPr>
          <p:sp>
            <p:nvSpPr>
              <p:cNvPr id="117" name=""/>
              <p:cNvSpPr/>
              <p:nvPr/>
            </p:nvSpPr>
            <p:spPr>
              <a:xfrm>
                <a:off x="6048360" y="4103640"/>
                <a:ext cx="182520" cy="95400"/>
              </a:xfrm>
              <a:custGeom>
                <a:avLst/>
                <a:gdLst/>
                <a:ahLst/>
                <a:rect l="l" t="t" r="r" b="b"/>
                <a:pathLst>
                  <a:path w="100" h="56">
                    <a:moveTo>
                      <a:pt x="0" y="0"/>
                    </a:moveTo>
                    <a:cubicBezTo>
                      <a:pt x="42" y="24"/>
                      <a:pt x="84" y="48"/>
                      <a:pt x="100" y="56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82760" y="2332080"/>
                <a:ext cx="444600" cy="253800"/>
              </a:xfrm>
              <a:custGeom>
                <a:avLst/>
                <a:gdLst/>
                <a:ahLst/>
                <a:rect l="l" t="t" r="r" b="b"/>
                <a:pathLst>
                  <a:path w="304" h="160">
                    <a:moveTo>
                      <a:pt x="304" y="0"/>
                    </a:moveTo>
                    <a:cubicBezTo>
                      <a:pt x="288" y="7"/>
                      <a:pt x="244" y="25"/>
                      <a:pt x="208" y="40"/>
                    </a:cubicBezTo>
                    <a:cubicBezTo>
                      <a:pt x="172" y="55"/>
                      <a:pt x="123" y="68"/>
                      <a:pt x="88" y="88"/>
                    </a:cubicBezTo>
                    <a:cubicBezTo>
                      <a:pt x="53" y="108"/>
                      <a:pt x="15" y="148"/>
                      <a:pt x="0" y="16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481640" y="3720960"/>
                <a:ext cx="1884240" cy="1900440"/>
              </a:xfrm>
              <a:custGeom>
                <a:avLst/>
                <a:gdLst/>
                <a:ahLst/>
                <a:rect l="l" t="t" r="r" b="b"/>
                <a:pathLst>
                  <a:path w="1286" h="1197">
                    <a:moveTo>
                      <a:pt x="1286" y="121"/>
                    </a:moveTo>
                    <a:cubicBezTo>
                      <a:pt x="1189" y="104"/>
                      <a:pt x="872" y="34"/>
                      <a:pt x="706" y="17"/>
                    </a:cubicBezTo>
                    <a:cubicBezTo>
                      <a:pt x="540" y="0"/>
                      <a:pt x="391" y="1"/>
                      <a:pt x="290" y="17"/>
                    </a:cubicBezTo>
                    <a:cubicBezTo>
                      <a:pt x="189" y="33"/>
                      <a:pt x="145" y="74"/>
                      <a:pt x="98" y="113"/>
                    </a:cubicBezTo>
                    <a:cubicBezTo>
                      <a:pt x="51" y="152"/>
                      <a:pt x="12" y="207"/>
                      <a:pt x="6" y="253"/>
                    </a:cubicBezTo>
                    <a:cubicBezTo>
                      <a:pt x="0" y="299"/>
                      <a:pt x="34" y="344"/>
                      <a:pt x="62" y="389"/>
                    </a:cubicBezTo>
                    <a:cubicBezTo>
                      <a:pt x="90" y="434"/>
                      <a:pt x="63" y="426"/>
                      <a:pt x="174" y="521"/>
                    </a:cubicBezTo>
                    <a:cubicBezTo>
                      <a:pt x="285" y="616"/>
                      <a:pt x="595" y="844"/>
                      <a:pt x="730" y="957"/>
                    </a:cubicBezTo>
                    <a:cubicBezTo>
                      <a:pt x="865" y="1070"/>
                      <a:pt x="933" y="1147"/>
                      <a:pt x="986" y="1197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02280" y="3970440"/>
                <a:ext cx="793800" cy="1722240"/>
              </a:xfrm>
              <a:custGeom>
                <a:avLst/>
                <a:gdLst/>
                <a:ahLst/>
                <a:rect l="l" t="t" r="r" b="b"/>
                <a:pathLst>
                  <a:path w="542" h="1085">
                    <a:moveTo>
                      <a:pt x="348" y="0"/>
                    </a:moveTo>
                    <a:cubicBezTo>
                      <a:pt x="367" y="17"/>
                      <a:pt x="429" y="48"/>
                      <a:pt x="460" y="100"/>
                    </a:cubicBezTo>
                    <a:cubicBezTo>
                      <a:pt x="491" y="152"/>
                      <a:pt x="530" y="222"/>
                      <a:pt x="536" y="312"/>
                    </a:cubicBezTo>
                    <a:cubicBezTo>
                      <a:pt x="542" y="402"/>
                      <a:pt x="525" y="541"/>
                      <a:pt x="496" y="640"/>
                    </a:cubicBezTo>
                    <a:cubicBezTo>
                      <a:pt x="467" y="739"/>
                      <a:pt x="404" y="837"/>
                      <a:pt x="360" y="904"/>
                    </a:cubicBezTo>
                    <a:cubicBezTo>
                      <a:pt x="316" y="971"/>
                      <a:pt x="278" y="1010"/>
                      <a:pt x="232" y="1040"/>
                    </a:cubicBezTo>
                    <a:cubicBezTo>
                      <a:pt x="186" y="1070"/>
                      <a:pt x="123" y="1083"/>
                      <a:pt x="84" y="1084"/>
                    </a:cubicBezTo>
                    <a:cubicBezTo>
                      <a:pt x="45" y="1085"/>
                      <a:pt x="18" y="1052"/>
                      <a:pt x="0" y="104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646520" y="3836880"/>
                <a:ext cx="1308240" cy="971640"/>
              </a:xfrm>
              <a:custGeom>
                <a:avLst/>
                <a:gdLst/>
                <a:ahLst/>
                <a:rect l="l" t="t" r="r" b="b"/>
                <a:pathLst>
                  <a:path w="893" h="612">
                    <a:moveTo>
                      <a:pt x="893" y="144"/>
                    </a:moveTo>
                    <a:cubicBezTo>
                      <a:pt x="858" y="131"/>
                      <a:pt x="791" y="95"/>
                      <a:pt x="681" y="72"/>
                    </a:cubicBezTo>
                    <a:cubicBezTo>
                      <a:pt x="571" y="49"/>
                      <a:pt x="338" y="0"/>
                      <a:pt x="233" y="4"/>
                    </a:cubicBezTo>
                    <a:cubicBezTo>
                      <a:pt x="128" y="8"/>
                      <a:pt x="86" y="56"/>
                      <a:pt x="49" y="96"/>
                    </a:cubicBezTo>
                    <a:cubicBezTo>
                      <a:pt x="12" y="136"/>
                      <a:pt x="0" y="196"/>
                      <a:pt x="13" y="244"/>
                    </a:cubicBezTo>
                    <a:cubicBezTo>
                      <a:pt x="26" y="292"/>
                      <a:pt x="45" y="323"/>
                      <a:pt x="125" y="384"/>
                    </a:cubicBezTo>
                    <a:cubicBezTo>
                      <a:pt x="205" y="445"/>
                      <a:pt x="416" y="564"/>
                      <a:pt x="493" y="61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573880" y="4338720"/>
                <a:ext cx="892080" cy="1071360"/>
              </a:xfrm>
              <a:custGeom>
                <a:avLst/>
                <a:gdLst/>
                <a:ahLst/>
                <a:rect l="l" t="t" r="r" b="b"/>
                <a:pathLst>
                  <a:path w="609" h="675">
                    <a:moveTo>
                      <a:pt x="540" y="0"/>
                    </a:moveTo>
                    <a:cubicBezTo>
                      <a:pt x="547" y="15"/>
                      <a:pt x="569" y="51"/>
                      <a:pt x="580" y="92"/>
                    </a:cubicBezTo>
                    <a:cubicBezTo>
                      <a:pt x="591" y="133"/>
                      <a:pt x="609" y="181"/>
                      <a:pt x="608" y="244"/>
                    </a:cubicBezTo>
                    <a:cubicBezTo>
                      <a:pt x="607" y="307"/>
                      <a:pt x="592" y="402"/>
                      <a:pt x="572" y="468"/>
                    </a:cubicBezTo>
                    <a:cubicBezTo>
                      <a:pt x="552" y="534"/>
                      <a:pt x="525" y="609"/>
                      <a:pt x="488" y="640"/>
                    </a:cubicBezTo>
                    <a:cubicBezTo>
                      <a:pt x="451" y="671"/>
                      <a:pt x="407" y="675"/>
                      <a:pt x="352" y="656"/>
                    </a:cubicBezTo>
                    <a:cubicBezTo>
                      <a:pt x="297" y="637"/>
                      <a:pt x="215" y="571"/>
                      <a:pt x="156" y="528"/>
                    </a:cubicBezTo>
                    <a:cubicBezTo>
                      <a:pt x="97" y="485"/>
                      <a:pt x="32" y="427"/>
                      <a:pt x="0" y="4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799160" y="3986280"/>
                <a:ext cx="1493640" cy="1212840"/>
              </a:xfrm>
              <a:custGeom>
                <a:avLst/>
                <a:gdLst/>
                <a:ahLst/>
                <a:rect l="l" t="t" r="r" b="b"/>
                <a:pathLst>
                  <a:path w="1019" h="764">
                    <a:moveTo>
                      <a:pt x="873" y="258"/>
                    </a:moveTo>
                    <a:cubicBezTo>
                      <a:pt x="799" y="223"/>
                      <a:pt x="541" y="84"/>
                      <a:pt x="433" y="42"/>
                    </a:cubicBezTo>
                    <a:cubicBezTo>
                      <a:pt x="325" y="0"/>
                      <a:pt x="284" y="10"/>
                      <a:pt x="225" y="6"/>
                    </a:cubicBezTo>
                    <a:cubicBezTo>
                      <a:pt x="166" y="2"/>
                      <a:pt x="118" y="3"/>
                      <a:pt x="81" y="18"/>
                    </a:cubicBezTo>
                    <a:cubicBezTo>
                      <a:pt x="44" y="33"/>
                      <a:pt x="2" y="65"/>
                      <a:pt x="1" y="98"/>
                    </a:cubicBezTo>
                    <a:cubicBezTo>
                      <a:pt x="0" y="131"/>
                      <a:pt x="38" y="177"/>
                      <a:pt x="77" y="218"/>
                    </a:cubicBezTo>
                    <a:cubicBezTo>
                      <a:pt x="116" y="259"/>
                      <a:pt x="167" y="297"/>
                      <a:pt x="233" y="342"/>
                    </a:cubicBezTo>
                    <a:cubicBezTo>
                      <a:pt x="299" y="387"/>
                      <a:pt x="370" y="420"/>
                      <a:pt x="473" y="486"/>
                    </a:cubicBezTo>
                    <a:cubicBezTo>
                      <a:pt x="576" y="552"/>
                      <a:pt x="762" y="712"/>
                      <a:pt x="849" y="738"/>
                    </a:cubicBezTo>
                    <a:cubicBezTo>
                      <a:pt x="936" y="764"/>
                      <a:pt x="967" y="693"/>
                      <a:pt x="993" y="642"/>
                    </a:cubicBezTo>
                    <a:cubicBezTo>
                      <a:pt x="1019" y="591"/>
                      <a:pt x="1010" y="484"/>
                      <a:pt x="1005" y="434"/>
                    </a:cubicBezTo>
                    <a:cubicBezTo>
                      <a:pt x="1000" y="384"/>
                      <a:pt x="973" y="361"/>
                      <a:pt x="965" y="34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048360" y="4687920"/>
                <a:ext cx="79560" cy="241200"/>
              </a:xfrm>
              <a:custGeom>
                <a:avLst/>
                <a:gdLst/>
                <a:ahLst/>
                <a:rect l="l" t="t" r="r" b="b"/>
                <a:pathLst>
                  <a:path w="54" h="152">
                    <a:moveTo>
                      <a:pt x="0" y="0"/>
                    </a:moveTo>
                    <a:cubicBezTo>
                      <a:pt x="7" y="14"/>
                      <a:pt x="42" y="59"/>
                      <a:pt x="48" y="84"/>
                    </a:cubicBezTo>
                    <a:cubicBezTo>
                      <a:pt x="54" y="109"/>
                      <a:pt x="38" y="138"/>
                      <a:pt x="36" y="1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57840" y="4545000"/>
                <a:ext cx="192240" cy="358560"/>
              </a:xfrm>
              <a:custGeom>
                <a:avLst/>
                <a:gdLst/>
                <a:ahLst/>
                <a:rect l="l" t="t" r="r" b="b"/>
                <a:pathLst>
                  <a:path w="131" h="226">
                    <a:moveTo>
                      <a:pt x="131" y="30"/>
                    </a:moveTo>
                    <a:cubicBezTo>
                      <a:pt x="122" y="25"/>
                      <a:pt x="94" y="4"/>
                      <a:pt x="75" y="2"/>
                    </a:cubicBezTo>
                    <a:cubicBezTo>
                      <a:pt x="56" y="0"/>
                      <a:pt x="26" y="3"/>
                      <a:pt x="15" y="18"/>
                    </a:cubicBezTo>
                    <a:cubicBezTo>
                      <a:pt x="4" y="33"/>
                      <a:pt x="0" y="70"/>
                      <a:pt x="7" y="94"/>
                    </a:cubicBezTo>
                    <a:cubicBezTo>
                      <a:pt x="14" y="118"/>
                      <a:pt x="36" y="140"/>
                      <a:pt x="55" y="162"/>
                    </a:cubicBezTo>
                    <a:cubicBezTo>
                      <a:pt x="74" y="184"/>
                      <a:pt x="97" y="204"/>
                      <a:pt x="123" y="226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38560" y="2106360"/>
                <a:ext cx="992160" cy="793800"/>
              </a:xfrm>
              <a:custGeom>
                <a:avLst/>
                <a:gdLst/>
                <a:ahLst/>
                <a:rect l="l" t="t" r="r" b="b"/>
                <a:pathLst>
                  <a:path w="677" h="500">
                    <a:moveTo>
                      <a:pt x="320" y="111"/>
                    </a:moveTo>
                    <a:cubicBezTo>
                      <a:pt x="365" y="95"/>
                      <a:pt x="533" y="0"/>
                      <a:pt x="588" y="15"/>
                    </a:cubicBezTo>
                    <a:cubicBezTo>
                      <a:pt x="643" y="30"/>
                      <a:pt x="677" y="126"/>
                      <a:pt x="648" y="199"/>
                    </a:cubicBezTo>
                    <a:cubicBezTo>
                      <a:pt x="619" y="272"/>
                      <a:pt x="507" y="410"/>
                      <a:pt x="416" y="455"/>
                    </a:cubicBezTo>
                    <a:cubicBezTo>
                      <a:pt x="325" y="500"/>
                      <a:pt x="173" y="475"/>
                      <a:pt x="104" y="471"/>
                    </a:cubicBezTo>
                    <a:cubicBezTo>
                      <a:pt x="35" y="467"/>
                      <a:pt x="22" y="439"/>
                      <a:pt x="0" y="431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527280" y="2363760"/>
                <a:ext cx="509760" cy="398520"/>
              </a:xfrm>
              <a:custGeom>
                <a:avLst/>
                <a:gdLst/>
                <a:ahLst/>
                <a:rect l="l" t="t" r="r" b="b"/>
                <a:pathLst>
                  <a:path w="348" h="251">
                    <a:moveTo>
                      <a:pt x="61" y="100"/>
                    </a:moveTo>
                    <a:cubicBezTo>
                      <a:pt x="52" y="107"/>
                      <a:pt x="18" y="125"/>
                      <a:pt x="9" y="144"/>
                    </a:cubicBezTo>
                    <a:cubicBezTo>
                      <a:pt x="0" y="163"/>
                      <a:pt x="0" y="196"/>
                      <a:pt x="9" y="212"/>
                    </a:cubicBezTo>
                    <a:cubicBezTo>
                      <a:pt x="18" y="228"/>
                      <a:pt x="34" y="237"/>
                      <a:pt x="65" y="240"/>
                    </a:cubicBezTo>
                    <a:cubicBezTo>
                      <a:pt x="96" y="243"/>
                      <a:pt x="150" y="251"/>
                      <a:pt x="193" y="232"/>
                    </a:cubicBezTo>
                    <a:cubicBezTo>
                      <a:pt x="236" y="213"/>
                      <a:pt x="302" y="158"/>
                      <a:pt x="325" y="124"/>
                    </a:cubicBezTo>
                    <a:cubicBezTo>
                      <a:pt x="348" y="90"/>
                      <a:pt x="346" y="49"/>
                      <a:pt x="333" y="28"/>
                    </a:cubicBezTo>
                    <a:cubicBezTo>
                      <a:pt x="320" y="7"/>
                      <a:pt x="270" y="0"/>
                      <a:pt x="245" y="0"/>
                    </a:cubicBezTo>
                    <a:cubicBezTo>
                      <a:pt x="220" y="0"/>
                      <a:pt x="197" y="22"/>
                      <a:pt x="185" y="28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21200" y="1646280"/>
                <a:ext cx="488880" cy="245880"/>
              </a:xfrm>
              <a:custGeom>
                <a:avLst/>
                <a:gdLst/>
                <a:ahLst/>
                <a:rect l="l" t="t" r="r" b="b"/>
                <a:pathLst>
                  <a:path w="333" h="155">
                    <a:moveTo>
                      <a:pt x="89" y="0"/>
                    </a:moveTo>
                    <a:cubicBezTo>
                      <a:pt x="76" y="7"/>
                      <a:pt x="18" y="23"/>
                      <a:pt x="9" y="40"/>
                    </a:cubicBezTo>
                    <a:cubicBezTo>
                      <a:pt x="0" y="57"/>
                      <a:pt x="18" y="86"/>
                      <a:pt x="33" y="104"/>
                    </a:cubicBezTo>
                    <a:cubicBezTo>
                      <a:pt x="48" y="122"/>
                      <a:pt x="69" y="141"/>
                      <a:pt x="97" y="148"/>
                    </a:cubicBezTo>
                    <a:cubicBezTo>
                      <a:pt x="125" y="155"/>
                      <a:pt x="164" y="154"/>
                      <a:pt x="201" y="148"/>
                    </a:cubicBezTo>
                    <a:cubicBezTo>
                      <a:pt x="238" y="142"/>
                      <a:pt x="301" y="128"/>
                      <a:pt x="317" y="112"/>
                    </a:cubicBezTo>
                    <a:cubicBezTo>
                      <a:pt x="333" y="96"/>
                      <a:pt x="308" y="67"/>
                      <a:pt x="297" y="52"/>
                    </a:cubicBezTo>
                    <a:cubicBezTo>
                      <a:pt x="286" y="37"/>
                      <a:pt x="266" y="27"/>
                      <a:pt x="249" y="20"/>
                    </a:cubicBezTo>
                    <a:cubicBezTo>
                      <a:pt x="232" y="13"/>
                      <a:pt x="205" y="10"/>
                      <a:pt x="193" y="8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1103400" y="284040"/>
            <a:ext cx="718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rrelações entre temperatura da superfície do mar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ecipitação em Fortaleza &amp; Quixeram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6520" y="6324480"/>
            <a:ext cx="27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ura and Shukla (198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12840" y="1450800"/>
            <a:ext cx="4903920" cy="3876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638800" y="3184560"/>
            <a:ext cx="3948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8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W       6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W      4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W      2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W        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          2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88040" y="5308560"/>
            <a:ext cx="3948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8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W       6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W      4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W      2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W        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          2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61960" y="1720800"/>
            <a:ext cx="800280" cy="19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2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ff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2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9000" y="1708200"/>
            <a:ext cx="799920" cy="19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2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ff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2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52600" y="3822840"/>
            <a:ext cx="799920" cy="19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2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ff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2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78600" y="3807000"/>
            <a:ext cx="800280" cy="19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2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ff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2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80240" y="271620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465360" y="2090880"/>
            <a:ext cx="3874680" cy="402120"/>
            <a:chOff x="3465360" y="2090880"/>
            <a:chExt cx="3874680" cy="402120"/>
          </a:xfrm>
        </p:grpSpPr>
        <p:sp>
          <p:nvSpPr>
            <p:cNvPr id="140" name=""/>
            <p:cNvSpPr/>
            <p:nvPr/>
          </p:nvSpPr>
          <p:spPr>
            <a:xfrm>
              <a:off x="3465360" y="2091960"/>
              <a:ext cx="355932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912"/>
                </a:path>
              </a:pathLst>
            </a:custGeom>
            <a:noFill/>
            <a:ln cap="rnd"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80720" y="2274480"/>
              <a:ext cx="3559320" cy="21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912"/>
                </a:path>
              </a:pathLst>
            </a:custGeom>
            <a:noFill/>
            <a:ln cap="rnd"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40400" y="2218320"/>
              <a:ext cx="3453480" cy="1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78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787"/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315400" y="2193480"/>
              <a:ext cx="128880" cy="712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173200" y="2148120"/>
              <a:ext cx="169200" cy="1108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050800" y="2102760"/>
              <a:ext cx="190080" cy="1558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929840" y="2090880"/>
              <a:ext cx="180000" cy="1728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817880" y="2097000"/>
              <a:ext cx="190080" cy="1785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716360" y="2101680"/>
              <a:ext cx="187920" cy="1738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601520" y="2102760"/>
              <a:ext cx="181800" cy="1728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483440" y="2107440"/>
              <a:ext cx="187920" cy="1846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351320" y="2113560"/>
              <a:ext cx="199080" cy="1908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240080" y="2113560"/>
              <a:ext cx="187920" cy="1846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116960" y="2113560"/>
              <a:ext cx="180000" cy="195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975120" y="2124360"/>
              <a:ext cx="180000" cy="195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844080" y="2130120"/>
              <a:ext cx="180000" cy="195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720960" y="2142000"/>
              <a:ext cx="169200" cy="2088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648600" y="2148120"/>
              <a:ext cx="131400" cy="1501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528720" y="2148120"/>
              <a:ext cx="131040" cy="1501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716280" y="4338720"/>
            <a:ext cx="3377880" cy="21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69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692"/>
              </a:path>
            </a:pathLst>
          </a:custGeom>
          <a:noFill/>
          <a:ln cap="rnd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35400" y="4452840"/>
            <a:ext cx="291132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00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003"/>
              </a:path>
            </a:pathLst>
          </a:custGeom>
          <a:noFill/>
          <a:ln cap="rnd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478120" y="4378320"/>
            <a:ext cx="104760" cy="5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345280" y="4349880"/>
            <a:ext cx="147600" cy="109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232240" y="4336920"/>
            <a:ext cx="128880" cy="1159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141880" y="4343400"/>
            <a:ext cx="117360" cy="109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020920" y="4348080"/>
            <a:ext cx="135000" cy="1177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908240" y="4349880"/>
            <a:ext cx="127080" cy="1159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786200" y="4354560"/>
            <a:ext cx="136800" cy="1270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54440" y="4361040"/>
            <a:ext cx="147600" cy="1267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520880" y="4361040"/>
            <a:ext cx="158760" cy="14436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368960" y="4361040"/>
            <a:ext cx="179280" cy="1951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227480" y="4370400"/>
            <a:ext cx="179280" cy="1951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115880" y="4371840"/>
            <a:ext cx="158760" cy="1890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982680" y="4389480"/>
            <a:ext cx="158760" cy="1555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892680" y="4394160"/>
            <a:ext cx="139680" cy="13356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830400" y="4394160"/>
            <a:ext cx="81000" cy="874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21360000">
            <a:off x="4176720" y="4356000"/>
            <a:ext cx="262836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446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4464"/>
              </a:path>
            </a:pathLst>
          </a:custGeom>
          <a:noFill/>
          <a:ln cap="rnd" w="1260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08080" y="4624560"/>
            <a:ext cx="55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Arial"/>
              </a:rPr>
              <a:t>+ H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29040" y="2441520"/>
            <a:ext cx="345960" cy="211320"/>
          </a:xfrm>
          <a:custGeom>
            <a:avLst/>
            <a:gdLst/>
            <a:ahLst/>
            <a:rect l="l" t="t" r="r" b="b"/>
            <a:pathLst>
              <a:path w="164" h="177">
                <a:moveTo>
                  <a:pt x="16" y="13"/>
                </a:moveTo>
                <a:lnTo>
                  <a:pt x="22" y="0"/>
                </a:lnTo>
                <a:lnTo>
                  <a:pt x="22" y="10"/>
                </a:lnTo>
                <a:lnTo>
                  <a:pt x="16" y="23"/>
                </a:lnTo>
                <a:lnTo>
                  <a:pt x="16" y="35"/>
                </a:lnTo>
                <a:lnTo>
                  <a:pt x="13" y="45"/>
                </a:lnTo>
                <a:lnTo>
                  <a:pt x="10" y="58"/>
                </a:lnTo>
                <a:lnTo>
                  <a:pt x="3" y="71"/>
                </a:lnTo>
                <a:lnTo>
                  <a:pt x="3" y="83"/>
                </a:lnTo>
                <a:lnTo>
                  <a:pt x="3" y="93"/>
                </a:lnTo>
                <a:lnTo>
                  <a:pt x="0" y="103"/>
                </a:lnTo>
                <a:lnTo>
                  <a:pt x="3" y="115"/>
                </a:lnTo>
                <a:lnTo>
                  <a:pt x="6" y="125"/>
                </a:lnTo>
                <a:lnTo>
                  <a:pt x="13" y="131"/>
                </a:lnTo>
                <a:lnTo>
                  <a:pt x="13" y="141"/>
                </a:lnTo>
                <a:lnTo>
                  <a:pt x="13" y="151"/>
                </a:lnTo>
                <a:lnTo>
                  <a:pt x="16" y="163"/>
                </a:lnTo>
                <a:lnTo>
                  <a:pt x="26" y="173"/>
                </a:lnTo>
                <a:lnTo>
                  <a:pt x="38" y="176"/>
                </a:lnTo>
                <a:lnTo>
                  <a:pt x="48" y="176"/>
                </a:lnTo>
                <a:lnTo>
                  <a:pt x="58" y="173"/>
                </a:lnTo>
                <a:lnTo>
                  <a:pt x="70" y="167"/>
                </a:lnTo>
                <a:lnTo>
                  <a:pt x="80" y="160"/>
                </a:lnTo>
                <a:lnTo>
                  <a:pt x="90" y="151"/>
                </a:lnTo>
                <a:lnTo>
                  <a:pt x="96" y="141"/>
                </a:lnTo>
                <a:lnTo>
                  <a:pt x="106" y="135"/>
                </a:lnTo>
                <a:lnTo>
                  <a:pt x="112" y="125"/>
                </a:lnTo>
                <a:lnTo>
                  <a:pt x="122" y="122"/>
                </a:lnTo>
                <a:lnTo>
                  <a:pt x="128" y="112"/>
                </a:lnTo>
                <a:lnTo>
                  <a:pt x="138" y="109"/>
                </a:lnTo>
                <a:lnTo>
                  <a:pt x="150" y="103"/>
                </a:lnTo>
                <a:lnTo>
                  <a:pt x="160" y="96"/>
                </a:lnTo>
                <a:lnTo>
                  <a:pt x="163" y="83"/>
                </a:lnTo>
                <a:lnTo>
                  <a:pt x="157" y="71"/>
                </a:lnTo>
                <a:lnTo>
                  <a:pt x="154" y="61"/>
                </a:lnTo>
                <a:lnTo>
                  <a:pt x="147" y="51"/>
                </a:lnTo>
                <a:lnTo>
                  <a:pt x="134" y="42"/>
                </a:lnTo>
                <a:lnTo>
                  <a:pt x="122" y="32"/>
                </a:lnTo>
                <a:lnTo>
                  <a:pt x="112" y="29"/>
                </a:lnTo>
                <a:lnTo>
                  <a:pt x="102" y="26"/>
                </a:lnTo>
                <a:lnTo>
                  <a:pt x="93" y="19"/>
                </a:lnTo>
                <a:lnTo>
                  <a:pt x="83" y="16"/>
                </a:lnTo>
                <a:lnTo>
                  <a:pt x="70" y="10"/>
                </a:lnTo>
                <a:lnTo>
                  <a:pt x="58" y="7"/>
                </a:lnTo>
                <a:lnTo>
                  <a:pt x="48" y="3"/>
                </a:lnTo>
                <a:lnTo>
                  <a:pt x="38" y="3"/>
                </a:lnTo>
                <a:lnTo>
                  <a:pt x="26" y="0"/>
                </a:lnTo>
                <a:lnTo>
                  <a:pt x="16" y="13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9040" y="4564080"/>
            <a:ext cx="345960" cy="210960"/>
          </a:xfrm>
          <a:custGeom>
            <a:avLst/>
            <a:gdLst/>
            <a:ahLst/>
            <a:rect l="l" t="t" r="r" b="b"/>
            <a:pathLst>
              <a:path w="164" h="177">
                <a:moveTo>
                  <a:pt x="16" y="13"/>
                </a:moveTo>
                <a:lnTo>
                  <a:pt x="22" y="0"/>
                </a:lnTo>
                <a:lnTo>
                  <a:pt x="22" y="10"/>
                </a:lnTo>
                <a:lnTo>
                  <a:pt x="16" y="23"/>
                </a:lnTo>
                <a:lnTo>
                  <a:pt x="16" y="35"/>
                </a:lnTo>
                <a:lnTo>
                  <a:pt x="13" y="45"/>
                </a:lnTo>
                <a:lnTo>
                  <a:pt x="10" y="58"/>
                </a:lnTo>
                <a:lnTo>
                  <a:pt x="3" y="71"/>
                </a:lnTo>
                <a:lnTo>
                  <a:pt x="3" y="83"/>
                </a:lnTo>
                <a:lnTo>
                  <a:pt x="3" y="93"/>
                </a:lnTo>
                <a:lnTo>
                  <a:pt x="0" y="103"/>
                </a:lnTo>
                <a:lnTo>
                  <a:pt x="3" y="115"/>
                </a:lnTo>
                <a:lnTo>
                  <a:pt x="6" y="125"/>
                </a:lnTo>
                <a:lnTo>
                  <a:pt x="13" y="131"/>
                </a:lnTo>
                <a:lnTo>
                  <a:pt x="13" y="141"/>
                </a:lnTo>
                <a:lnTo>
                  <a:pt x="13" y="151"/>
                </a:lnTo>
                <a:lnTo>
                  <a:pt x="16" y="163"/>
                </a:lnTo>
                <a:lnTo>
                  <a:pt x="26" y="173"/>
                </a:lnTo>
                <a:lnTo>
                  <a:pt x="38" y="176"/>
                </a:lnTo>
                <a:lnTo>
                  <a:pt x="48" y="176"/>
                </a:lnTo>
                <a:lnTo>
                  <a:pt x="58" y="173"/>
                </a:lnTo>
                <a:lnTo>
                  <a:pt x="70" y="167"/>
                </a:lnTo>
                <a:lnTo>
                  <a:pt x="80" y="160"/>
                </a:lnTo>
                <a:lnTo>
                  <a:pt x="90" y="151"/>
                </a:lnTo>
                <a:lnTo>
                  <a:pt x="96" y="141"/>
                </a:lnTo>
                <a:lnTo>
                  <a:pt x="106" y="135"/>
                </a:lnTo>
                <a:lnTo>
                  <a:pt x="112" y="125"/>
                </a:lnTo>
                <a:lnTo>
                  <a:pt x="122" y="122"/>
                </a:lnTo>
                <a:lnTo>
                  <a:pt x="128" y="112"/>
                </a:lnTo>
                <a:lnTo>
                  <a:pt x="138" y="109"/>
                </a:lnTo>
                <a:lnTo>
                  <a:pt x="150" y="103"/>
                </a:lnTo>
                <a:lnTo>
                  <a:pt x="160" y="96"/>
                </a:lnTo>
                <a:lnTo>
                  <a:pt x="163" y="83"/>
                </a:lnTo>
                <a:lnTo>
                  <a:pt x="157" y="71"/>
                </a:lnTo>
                <a:lnTo>
                  <a:pt x="154" y="61"/>
                </a:lnTo>
                <a:lnTo>
                  <a:pt x="147" y="51"/>
                </a:lnTo>
                <a:lnTo>
                  <a:pt x="134" y="42"/>
                </a:lnTo>
                <a:lnTo>
                  <a:pt x="122" y="32"/>
                </a:lnTo>
                <a:lnTo>
                  <a:pt x="112" y="29"/>
                </a:lnTo>
                <a:lnTo>
                  <a:pt x="102" y="26"/>
                </a:lnTo>
                <a:lnTo>
                  <a:pt x="93" y="19"/>
                </a:lnTo>
                <a:lnTo>
                  <a:pt x="83" y="16"/>
                </a:lnTo>
                <a:lnTo>
                  <a:pt x="70" y="10"/>
                </a:lnTo>
                <a:lnTo>
                  <a:pt x="58" y="7"/>
                </a:lnTo>
                <a:lnTo>
                  <a:pt x="48" y="3"/>
                </a:lnTo>
                <a:lnTo>
                  <a:pt x="38" y="3"/>
                </a:lnTo>
                <a:lnTo>
                  <a:pt x="26" y="0"/>
                </a:lnTo>
                <a:lnTo>
                  <a:pt x="16" y="13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82760" y="344808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65840" y="127008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79240" y="2533680"/>
            <a:ext cx="64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5fb"/>
                </a:solidFill>
                <a:latin typeface="Arial"/>
              </a:rPr>
              <a:t>+ CO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61920" y="1846440"/>
            <a:ext cx="55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Arial"/>
              </a:rPr>
              <a:t>+ H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62720" y="2117880"/>
            <a:ext cx="49248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TC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05720" y="4363920"/>
            <a:ext cx="49248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TC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1301760"/>
            <a:ext cx="75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5fb"/>
                </a:solidFill>
                <a:latin typeface="Arial"/>
              </a:rPr>
              <a:t>SE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65840" y="36529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48040" y="15224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36920" y="491508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89440" y="4813200"/>
            <a:ext cx="849240" cy="34776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336" y="240"/>
                </a:moveTo>
                <a:cubicBezTo>
                  <a:pt x="316" y="164"/>
                  <a:pt x="296" y="88"/>
                  <a:pt x="240" y="48"/>
                </a:cubicBezTo>
                <a:cubicBezTo>
                  <a:pt x="184" y="8"/>
                  <a:pt x="40" y="8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78480" y="4824360"/>
            <a:ext cx="406440" cy="33192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336" y="240"/>
                </a:moveTo>
                <a:cubicBezTo>
                  <a:pt x="316" y="164"/>
                  <a:pt x="296" y="88"/>
                  <a:pt x="240" y="48"/>
                </a:cubicBezTo>
                <a:cubicBezTo>
                  <a:pt x="184" y="8"/>
                  <a:pt x="40" y="8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50000" y="4788000"/>
            <a:ext cx="480960" cy="31896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336" y="240"/>
                </a:moveTo>
                <a:cubicBezTo>
                  <a:pt x="316" y="164"/>
                  <a:pt x="296" y="88"/>
                  <a:pt x="240" y="48"/>
                </a:cubicBezTo>
                <a:cubicBezTo>
                  <a:pt x="184" y="8"/>
                  <a:pt x="40" y="8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14920" y="3692520"/>
            <a:ext cx="812520" cy="620640"/>
          </a:xfrm>
          <a:custGeom>
            <a:avLst/>
            <a:gdLst/>
            <a:ahLst/>
            <a:rect l="l" t="t" r="r" b="b"/>
            <a:pathLst>
              <a:path w="384" h="521">
                <a:moveTo>
                  <a:pt x="73" y="166"/>
                </a:moveTo>
                <a:lnTo>
                  <a:pt x="60" y="118"/>
                </a:lnTo>
                <a:lnTo>
                  <a:pt x="86" y="51"/>
                </a:lnTo>
                <a:lnTo>
                  <a:pt x="137" y="19"/>
                </a:lnTo>
                <a:lnTo>
                  <a:pt x="211" y="0"/>
                </a:lnTo>
                <a:lnTo>
                  <a:pt x="284" y="9"/>
                </a:lnTo>
                <a:lnTo>
                  <a:pt x="348" y="41"/>
                </a:lnTo>
                <a:lnTo>
                  <a:pt x="380" y="86"/>
                </a:lnTo>
                <a:lnTo>
                  <a:pt x="384" y="115"/>
                </a:lnTo>
                <a:lnTo>
                  <a:pt x="384" y="157"/>
                </a:lnTo>
                <a:lnTo>
                  <a:pt x="358" y="217"/>
                </a:lnTo>
                <a:lnTo>
                  <a:pt x="316" y="272"/>
                </a:lnTo>
                <a:lnTo>
                  <a:pt x="252" y="333"/>
                </a:lnTo>
                <a:lnTo>
                  <a:pt x="108" y="445"/>
                </a:lnTo>
                <a:lnTo>
                  <a:pt x="0" y="52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24560" y="3772080"/>
            <a:ext cx="347400" cy="571320"/>
          </a:xfrm>
          <a:custGeom>
            <a:avLst/>
            <a:gdLst/>
            <a:ahLst/>
            <a:rect l="l" t="t" r="r" b="b"/>
            <a:pathLst>
              <a:path w="164" h="480">
                <a:moveTo>
                  <a:pt x="148" y="0"/>
                </a:moveTo>
                <a:lnTo>
                  <a:pt x="164" y="64"/>
                </a:lnTo>
                <a:lnTo>
                  <a:pt x="161" y="122"/>
                </a:lnTo>
                <a:lnTo>
                  <a:pt x="138" y="202"/>
                </a:lnTo>
                <a:lnTo>
                  <a:pt x="113" y="259"/>
                </a:lnTo>
                <a:lnTo>
                  <a:pt x="81" y="336"/>
                </a:lnTo>
                <a:lnTo>
                  <a:pt x="0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94080" y="4038480"/>
            <a:ext cx="64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5fb"/>
                </a:solidFill>
                <a:latin typeface="Arial"/>
              </a:rPr>
              <a:t>+ CO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33960" y="4308480"/>
            <a:ext cx="377640" cy="355680"/>
          </a:xfrm>
          <a:custGeom>
            <a:avLst/>
            <a:gdLst/>
            <a:ahLst/>
            <a:rect l="l" t="t" r="r" b="b"/>
            <a:pathLst>
              <a:path w="179" h="298">
                <a:moveTo>
                  <a:pt x="19" y="0"/>
                </a:moveTo>
                <a:cubicBezTo>
                  <a:pt x="16" y="10"/>
                  <a:pt x="0" y="39"/>
                  <a:pt x="0" y="61"/>
                </a:cubicBezTo>
                <a:cubicBezTo>
                  <a:pt x="0" y="83"/>
                  <a:pt x="7" y="113"/>
                  <a:pt x="16" y="135"/>
                </a:cubicBezTo>
                <a:cubicBezTo>
                  <a:pt x="25" y="157"/>
                  <a:pt x="38" y="173"/>
                  <a:pt x="54" y="192"/>
                </a:cubicBezTo>
                <a:cubicBezTo>
                  <a:pt x="70" y="211"/>
                  <a:pt x="91" y="232"/>
                  <a:pt x="112" y="250"/>
                </a:cubicBezTo>
                <a:cubicBezTo>
                  <a:pt x="133" y="268"/>
                  <a:pt x="165" y="288"/>
                  <a:pt x="179" y="29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67320" y="4324320"/>
            <a:ext cx="309600" cy="298440"/>
          </a:xfrm>
          <a:custGeom>
            <a:avLst/>
            <a:gdLst/>
            <a:ahLst/>
            <a:rect l="l" t="t" r="r" b="b"/>
            <a:pathLst>
              <a:path w="146" h="250">
                <a:moveTo>
                  <a:pt x="31" y="0"/>
                </a:moveTo>
                <a:cubicBezTo>
                  <a:pt x="26" y="13"/>
                  <a:pt x="4" y="51"/>
                  <a:pt x="2" y="77"/>
                </a:cubicBezTo>
                <a:cubicBezTo>
                  <a:pt x="0" y="103"/>
                  <a:pt x="10" y="133"/>
                  <a:pt x="21" y="154"/>
                </a:cubicBezTo>
                <a:cubicBezTo>
                  <a:pt x="32" y="175"/>
                  <a:pt x="48" y="189"/>
                  <a:pt x="69" y="205"/>
                </a:cubicBezTo>
                <a:cubicBezTo>
                  <a:pt x="90" y="221"/>
                  <a:pt x="130" y="241"/>
                  <a:pt x="146" y="25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98960" y="3768840"/>
            <a:ext cx="74520" cy="250560"/>
          </a:xfrm>
          <a:custGeom>
            <a:avLst/>
            <a:gdLst/>
            <a:ahLst/>
            <a:rect l="l" t="t" r="r" b="b"/>
            <a:pathLst>
              <a:path w="35" h="211">
                <a:moveTo>
                  <a:pt x="19" y="0"/>
                </a:moveTo>
                <a:cubicBezTo>
                  <a:pt x="21" y="15"/>
                  <a:pt x="35" y="61"/>
                  <a:pt x="32" y="96"/>
                </a:cubicBezTo>
                <a:cubicBezTo>
                  <a:pt x="29" y="131"/>
                  <a:pt x="7" y="187"/>
                  <a:pt x="0" y="21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90960" y="4019400"/>
            <a:ext cx="379440" cy="617760"/>
          </a:xfrm>
          <a:custGeom>
            <a:avLst/>
            <a:gdLst/>
            <a:ahLst/>
            <a:rect l="l" t="t" r="r" b="b"/>
            <a:pathLst>
              <a:path w="179" h="518">
                <a:moveTo>
                  <a:pt x="51" y="0"/>
                </a:moveTo>
                <a:cubicBezTo>
                  <a:pt x="46" y="19"/>
                  <a:pt x="23" y="77"/>
                  <a:pt x="15" y="112"/>
                </a:cubicBezTo>
                <a:cubicBezTo>
                  <a:pt x="7" y="147"/>
                  <a:pt x="0" y="176"/>
                  <a:pt x="3" y="208"/>
                </a:cubicBezTo>
                <a:cubicBezTo>
                  <a:pt x="6" y="240"/>
                  <a:pt x="18" y="275"/>
                  <a:pt x="31" y="304"/>
                </a:cubicBezTo>
                <a:cubicBezTo>
                  <a:pt x="44" y="333"/>
                  <a:pt x="58" y="345"/>
                  <a:pt x="83" y="381"/>
                </a:cubicBezTo>
                <a:cubicBezTo>
                  <a:pt x="108" y="417"/>
                  <a:pt x="159" y="489"/>
                  <a:pt x="179" y="51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62480" y="2374920"/>
            <a:ext cx="657360" cy="666720"/>
          </a:xfrm>
          <a:custGeom>
            <a:avLst/>
            <a:gdLst/>
            <a:ahLst/>
            <a:rect l="l" t="t" r="r" b="b"/>
            <a:pathLst>
              <a:path w="311" h="560">
                <a:moveTo>
                  <a:pt x="0" y="0"/>
                </a:moveTo>
                <a:lnTo>
                  <a:pt x="154" y="96"/>
                </a:lnTo>
                <a:lnTo>
                  <a:pt x="234" y="169"/>
                </a:lnTo>
                <a:lnTo>
                  <a:pt x="272" y="220"/>
                </a:lnTo>
                <a:lnTo>
                  <a:pt x="288" y="268"/>
                </a:lnTo>
                <a:lnTo>
                  <a:pt x="311" y="387"/>
                </a:lnTo>
                <a:lnTo>
                  <a:pt x="304" y="480"/>
                </a:lnTo>
                <a:lnTo>
                  <a:pt x="260" y="56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460680" y="1746000"/>
            <a:ext cx="439920" cy="215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97160" y="1581120"/>
            <a:ext cx="225720" cy="298440"/>
          </a:xfrm>
          <a:custGeom>
            <a:avLst/>
            <a:gdLst/>
            <a:ahLst/>
            <a:rect l="l" t="t" r="r" b="b"/>
            <a:pathLst>
              <a:path w="106" h="250">
                <a:moveTo>
                  <a:pt x="29" y="0"/>
                </a:moveTo>
                <a:cubicBezTo>
                  <a:pt x="37" y="3"/>
                  <a:pt x="63" y="9"/>
                  <a:pt x="75" y="18"/>
                </a:cubicBezTo>
                <a:cubicBezTo>
                  <a:pt x="87" y="27"/>
                  <a:pt x="94" y="39"/>
                  <a:pt x="99" y="51"/>
                </a:cubicBezTo>
                <a:cubicBezTo>
                  <a:pt x="104" y="63"/>
                  <a:pt x="106" y="79"/>
                  <a:pt x="104" y="93"/>
                </a:cubicBezTo>
                <a:cubicBezTo>
                  <a:pt x="102" y="107"/>
                  <a:pt x="92" y="127"/>
                  <a:pt x="86" y="138"/>
                </a:cubicBezTo>
                <a:cubicBezTo>
                  <a:pt x="80" y="149"/>
                  <a:pt x="82" y="141"/>
                  <a:pt x="68" y="160"/>
                </a:cubicBezTo>
                <a:cubicBezTo>
                  <a:pt x="54" y="179"/>
                  <a:pt x="14" y="231"/>
                  <a:pt x="0" y="25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00640" y="1589040"/>
            <a:ext cx="137880" cy="217440"/>
          </a:xfrm>
          <a:custGeom>
            <a:avLst/>
            <a:gdLst/>
            <a:ahLst/>
            <a:rect l="l" t="t" r="r" b="b"/>
            <a:pathLst>
              <a:path w="65" h="183">
                <a:moveTo>
                  <a:pt x="36" y="0"/>
                </a:moveTo>
                <a:cubicBezTo>
                  <a:pt x="39" y="3"/>
                  <a:pt x="52" y="12"/>
                  <a:pt x="57" y="20"/>
                </a:cubicBezTo>
                <a:cubicBezTo>
                  <a:pt x="62" y="28"/>
                  <a:pt x="65" y="35"/>
                  <a:pt x="64" y="46"/>
                </a:cubicBezTo>
                <a:cubicBezTo>
                  <a:pt x="63" y="57"/>
                  <a:pt x="63" y="64"/>
                  <a:pt x="52" y="87"/>
                </a:cubicBezTo>
                <a:cubicBezTo>
                  <a:pt x="41" y="110"/>
                  <a:pt x="11" y="16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16360" y="2041560"/>
            <a:ext cx="1060560" cy="473040"/>
          </a:xfrm>
          <a:custGeom>
            <a:avLst/>
            <a:gdLst/>
            <a:ahLst/>
            <a:rect l="l" t="t" r="r" b="b"/>
            <a:pathLst>
              <a:path w="501" h="397">
                <a:moveTo>
                  <a:pt x="501" y="397"/>
                </a:moveTo>
                <a:cubicBezTo>
                  <a:pt x="467" y="382"/>
                  <a:pt x="352" y="329"/>
                  <a:pt x="296" y="307"/>
                </a:cubicBezTo>
                <a:cubicBezTo>
                  <a:pt x="240" y="285"/>
                  <a:pt x="200" y="277"/>
                  <a:pt x="165" y="263"/>
                </a:cubicBezTo>
                <a:cubicBezTo>
                  <a:pt x="130" y="249"/>
                  <a:pt x="113" y="238"/>
                  <a:pt x="88" y="221"/>
                </a:cubicBezTo>
                <a:cubicBezTo>
                  <a:pt x="63" y="204"/>
                  <a:pt x="29" y="179"/>
                  <a:pt x="15" y="160"/>
                </a:cubicBezTo>
                <a:cubicBezTo>
                  <a:pt x="1" y="141"/>
                  <a:pt x="0" y="129"/>
                  <a:pt x="2" y="109"/>
                </a:cubicBezTo>
                <a:cubicBezTo>
                  <a:pt x="4" y="89"/>
                  <a:pt x="20" y="60"/>
                  <a:pt x="27" y="42"/>
                </a:cubicBezTo>
                <a:cubicBezTo>
                  <a:pt x="34" y="24"/>
                  <a:pt x="40" y="9"/>
                  <a:pt x="4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92640" y="2098800"/>
            <a:ext cx="558720" cy="301680"/>
          </a:xfrm>
          <a:custGeom>
            <a:avLst/>
            <a:gdLst/>
            <a:ahLst/>
            <a:rect l="l" t="t" r="r" b="b"/>
            <a:pathLst>
              <a:path w="501" h="397">
                <a:moveTo>
                  <a:pt x="501" y="397"/>
                </a:moveTo>
                <a:cubicBezTo>
                  <a:pt x="467" y="382"/>
                  <a:pt x="352" y="329"/>
                  <a:pt x="296" y="307"/>
                </a:cubicBezTo>
                <a:cubicBezTo>
                  <a:pt x="240" y="285"/>
                  <a:pt x="200" y="277"/>
                  <a:pt x="165" y="263"/>
                </a:cubicBezTo>
                <a:cubicBezTo>
                  <a:pt x="130" y="249"/>
                  <a:pt x="113" y="238"/>
                  <a:pt x="88" y="221"/>
                </a:cubicBezTo>
                <a:cubicBezTo>
                  <a:pt x="63" y="204"/>
                  <a:pt x="29" y="179"/>
                  <a:pt x="15" y="160"/>
                </a:cubicBezTo>
                <a:cubicBezTo>
                  <a:pt x="1" y="141"/>
                  <a:pt x="0" y="129"/>
                  <a:pt x="2" y="109"/>
                </a:cubicBezTo>
                <a:cubicBezTo>
                  <a:pt x="4" y="89"/>
                  <a:pt x="20" y="60"/>
                  <a:pt x="27" y="42"/>
                </a:cubicBezTo>
                <a:cubicBezTo>
                  <a:pt x="34" y="24"/>
                  <a:pt x="40" y="9"/>
                  <a:pt x="4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11680" y="2057400"/>
            <a:ext cx="525600" cy="307800"/>
          </a:xfrm>
          <a:custGeom>
            <a:avLst/>
            <a:gdLst/>
            <a:ahLst/>
            <a:rect l="l" t="t" r="r" b="b"/>
            <a:pathLst>
              <a:path w="501" h="397">
                <a:moveTo>
                  <a:pt x="501" y="397"/>
                </a:moveTo>
                <a:cubicBezTo>
                  <a:pt x="467" y="382"/>
                  <a:pt x="352" y="329"/>
                  <a:pt x="296" y="307"/>
                </a:cubicBezTo>
                <a:cubicBezTo>
                  <a:pt x="240" y="285"/>
                  <a:pt x="200" y="277"/>
                  <a:pt x="165" y="263"/>
                </a:cubicBezTo>
                <a:cubicBezTo>
                  <a:pt x="130" y="249"/>
                  <a:pt x="113" y="238"/>
                  <a:pt x="88" y="221"/>
                </a:cubicBezTo>
                <a:cubicBezTo>
                  <a:pt x="63" y="204"/>
                  <a:pt x="29" y="179"/>
                  <a:pt x="15" y="160"/>
                </a:cubicBezTo>
                <a:cubicBezTo>
                  <a:pt x="1" y="141"/>
                  <a:pt x="0" y="129"/>
                  <a:pt x="2" y="109"/>
                </a:cubicBezTo>
                <a:cubicBezTo>
                  <a:pt x="4" y="89"/>
                  <a:pt x="20" y="60"/>
                  <a:pt x="27" y="42"/>
                </a:cubicBezTo>
                <a:cubicBezTo>
                  <a:pt x="34" y="24"/>
                  <a:pt x="40" y="9"/>
                  <a:pt x="4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7960" y="3429000"/>
            <a:ext cx="120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5fb"/>
                </a:solidFill>
                <a:latin typeface="Arial"/>
              </a:rPr>
              <a:t>CHUVO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30840" y="2693880"/>
            <a:ext cx="730080" cy="389160"/>
          </a:xfrm>
          <a:custGeom>
            <a:avLst/>
            <a:gdLst/>
            <a:ahLst/>
            <a:rect l="l" t="t" r="r" b="b"/>
            <a:pathLst>
              <a:path w="345" h="327">
                <a:moveTo>
                  <a:pt x="252" y="0"/>
                </a:moveTo>
                <a:lnTo>
                  <a:pt x="320" y="87"/>
                </a:lnTo>
                <a:lnTo>
                  <a:pt x="345" y="186"/>
                </a:lnTo>
                <a:lnTo>
                  <a:pt x="323" y="256"/>
                </a:lnTo>
                <a:lnTo>
                  <a:pt x="284" y="292"/>
                </a:lnTo>
                <a:lnTo>
                  <a:pt x="224" y="317"/>
                </a:lnTo>
                <a:lnTo>
                  <a:pt x="163" y="327"/>
                </a:lnTo>
                <a:lnTo>
                  <a:pt x="99" y="317"/>
                </a:lnTo>
                <a:lnTo>
                  <a:pt x="22" y="279"/>
                </a:lnTo>
                <a:lnTo>
                  <a:pt x="0" y="231"/>
                </a:lnTo>
                <a:lnTo>
                  <a:pt x="5" y="200"/>
                </a:lnTo>
                <a:lnTo>
                  <a:pt x="24" y="174"/>
                </a:lnTo>
                <a:lnTo>
                  <a:pt x="51" y="15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49840" y="2689200"/>
            <a:ext cx="114480" cy="352440"/>
          </a:xfrm>
          <a:custGeom>
            <a:avLst/>
            <a:gdLst/>
            <a:ahLst/>
            <a:rect l="l" t="t" r="r" b="b"/>
            <a:pathLst>
              <a:path w="54" h="295">
                <a:moveTo>
                  <a:pt x="3" y="0"/>
                </a:moveTo>
                <a:lnTo>
                  <a:pt x="29" y="58"/>
                </a:lnTo>
                <a:lnTo>
                  <a:pt x="45" y="106"/>
                </a:lnTo>
                <a:lnTo>
                  <a:pt x="51" y="151"/>
                </a:lnTo>
                <a:lnTo>
                  <a:pt x="54" y="205"/>
                </a:lnTo>
                <a:lnTo>
                  <a:pt x="35" y="253"/>
                </a:lnTo>
                <a:lnTo>
                  <a:pt x="0" y="295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61040" y="2541600"/>
            <a:ext cx="452160" cy="22320"/>
          </a:xfrm>
          <a:custGeom>
            <a:avLst/>
            <a:gdLst/>
            <a:ahLst/>
            <a:rect l="l" t="t" r="r" b="b"/>
            <a:pathLst>
              <a:path w="214" h="19">
                <a:moveTo>
                  <a:pt x="0" y="3"/>
                </a:moveTo>
                <a:lnTo>
                  <a:pt x="69" y="0"/>
                </a:lnTo>
                <a:lnTo>
                  <a:pt x="141" y="0"/>
                </a:lnTo>
                <a:lnTo>
                  <a:pt x="214" y="19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0440" y="2408400"/>
            <a:ext cx="501840" cy="133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46520" y="3714840"/>
            <a:ext cx="196920" cy="345960"/>
          </a:xfrm>
          <a:custGeom>
            <a:avLst/>
            <a:gdLst/>
            <a:ahLst/>
            <a:rect l="l" t="t" r="r" b="b"/>
            <a:pathLst>
              <a:path w="93" h="291">
                <a:moveTo>
                  <a:pt x="61" y="0"/>
                </a:moveTo>
                <a:lnTo>
                  <a:pt x="80" y="32"/>
                </a:lnTo>
                <a:lnTo>
                  <a:pt x="93" y="77"/>
                </a:lnTo>
                <a:lnTo>
                  <a:pt x="74" y="160"/>
                </a:lnTo>
                <a:lnTo>
                  <a:pt x="45" y="23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235400" y="4179960"/>
            <a:ext cx="262080" cy="156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90440" y="655560"/>
            <a:ext cx="4778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901f3"/>
                </a:solidFill>
                <a:latin typeface="Times New Roman"/>
              </a:rPr>
              <a:t>A influência do Atlântico: ZC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82680" y="784080"/>
            <a:ext cx="7041960" cy="6073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101240" y="299880"/>
            <a:ext cx="643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ÇÕES NUMÉRICAS DE ANOMALIAS DE PRECIPIT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URANTE MAM SOBRE O NORDESTE DO BRA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70320" y="1514520"/>
            <a:ext cx="13176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0000" y="4743360"/>
            <a:ext cx="13176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69920" y="3257640"/>
            <a:ext cx="13176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62440" y="3343320"/>
            <a:ext cx="1332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48120" y="3333600"/>
            <a:ext cx="13176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30880" y="2152800"/>
            <a:ext cx="13176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84240" y="4562640"/>
            <a:ext cx="13176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63920" y="4095720"/>
            <a:ext cx="13176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59400" y="4476600"/>
            <a:ext cx="13176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19920" y="3371760"/>
            <a:ext cx="13176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52960" y="5257800"/>
            <a:ext cx="13176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53360" y="6019920"/>
            <a:ext cx="13176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76360" y="5905440"/>
            <a:ext cx="1332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14480" y="5613480"/>
            <a:ext cx="146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ersonal c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. Ma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2556000" y="1197000"/>
            <a:ext cx="4523760" cy="5903640"/>
            <a:chOff x="2556000" y="1197000"/>
            <a:chExt cx="4523760" cy="5903640"/>
          </a:xfrm>
        </p:grpSpPr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2556000" y="1197000"/>
              <a:ext cx="4523760" cy="59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089520" y="1252080"/>
              <a:ext cx="1501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erv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30480" y="1252080"/>
              <a:ext cx="21056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visto (RS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evisão Climática Regional</a:t>
            </a:r>
            <a:br>
              <a:rPr sz="3600"/>
            </a:b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úmero de dias sem chuva,  fev-abr de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828800" y="27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14920" y="6518160"/>
            <a:ext cx="17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Nobre et al. (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11280" y="981000"/>
            <a:ext cx="7719840" cy="5587560"/>
            <a:chOff x="611280" y="981000"/>
            <a:chExt cx="7719840" cy="5587560"/>
          </a:xfrm>
        </p:grpSpPr>
        <p:grpSp>
          <p:nvGrpSpPr>
            <p:cNvPr id="239" name=""/>
            <p:cNvGrpSpPr/>
            <p:nvPr/>
          </p:nvGrpSpPr>
          <p:grpSpPr>
            <a:xfrm>
              <a:off x="611280" y="981000"/>
              <a:ext cx="7719840" cy="5587560"/>
              <a:chOff x="611280" y="981000"/>
              <a:chExt cx="7719840" cy="558756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611280" y="981000"/>
                <a:ext cx="7719840" cy="5587560"/>
                <a:chOff x="611280" y="981000"/>
                <a:chExt cx="7719840" cy="5587560"/>
              </a:xfrm>
            </p:grpSpPr>
            <p:pic>
              <p:nvPicPr>
                <p:cNvPr id="24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11280" y="981000"/>
                  <a:ext cx="7719840" cy="5566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2" name=""/>
                <p:cNvSpPr/>
                <p:nvPr/>
              </p:nvSpPr>
              <p:spPr>
                <a:xfrm>
                  <a:off x="611280" y="6228720"/>
                  <a:ext cx="801000" cy="339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3" name=""/>
              <p:cNvSpPr/>
              <p:nvPr/>
            </p:nvSpPr>
            <p:spPr>
              <a:xfrm>
                <a:off x="4685040" y="2609280"/>
                <a:ext cx="130788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681960" y="5759640"/>
                <a:ext cx="618840" cy="192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294680" y="5952240"/>
                <a:ext cx="694800" cy="1274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5992920" y="5759280"/>
                <a:ext cx="688680" cy="1047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337720" y="5483160"/>
                <a:ext cx="655200" cy="4039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67040" y="4520880"/>
                <a:ext cx="638280" cy="9165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011480" y="3958200"/>
                <a:ext cx="673200" cy="579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348000" y="3673440"/>
                <a:ext cx="649440" cy="2844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689920" y="2609280"/>
                <a:ext cx="688680" cy="1092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2013120" y="2609280"/>
                <a:ext cx="676440" cy="25704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2001240" y="2223720"/>
              <a:ext cx="5918040" cy="3855240"/>
              <a:chOff x="2001240" y="2223720"/>
              <a:chExt cx="5918040" cy="3855240"/>
            </a:xfrm>
          </p:grpSpPr>
          <p:sp>
            <p:nvSpPr>
              <p:cNvPr id="254" name=""/>
              <p:cNvSpPr/>
              <p:nvPr/>
            </p:nvSpPr>
            <p:spPr>
              <a:xfrm>
                <a:off x="4684680" y="2223720"/>
                <a:ext cx="1307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7300440" y="5693400"/>
                <a:ext cx="618840" cy="65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611760" y="5372280"/>
                <a:ext cx="688680" cy="386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305320" y="5308560"/>
                <a:ext cx="6872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684680" y="4151880"/>
                <a:ext cx="620640" cy="1092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065840" y="4086720"/>
                <a:ext cx="618840" cy="65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78600" y="3572640"/>
                <a:ext cx="686880" cy="514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689920" y="3572640"/>
                <a:ext cx="688680" cy="385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2001240" y="3957480"/>
                <a:ext cx="688680" cy="2121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92920" y="5308560"/>
                <a:ext cx="618840" cy="6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"/>
          <p:cNvSpPr/>
          <p:nvPr/>
        </p:nvSpPr>
        <p:spPr>
          <a:xfrm>
            <a:off x="1038960" y="255600"/>
            <a:ext cx="7439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evisão Climática Regio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dade de chuva  no Nordeste, fev-abr/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830680" y="1219320"/>
            <a:ext cx="2527200" cy="15494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26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982960" y="1295280"/>
            <a:ext cx="2527200" cy="1549440"/>
          </a:xfrm>
          <a:prstGeom prst="rect">
            <a:avLst/>
          </a:prstGeom>
          <a:ln w="25560">
            <a:solidFill>
              <a:srgbClr val="000000"/>
            </a:solidFill>
            <a:prstDash val="sysDot"/>
            <a:miter/>
          </a:ln>
        </p:spPr>
      </p:pic>
      <p:pic>
        <p:nvPicPr>
          <p:cNvPr id="267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3135240" y="1371600"/>
            <a:ext cx="2527200" cy="1549440"/>
          </a:xfrm>
          <a:prstGeom prst="rect">
            <a:avLst/>
          </a:prstGeom>
          <a:ln w="25560">
            <a:solidFill>
              <a:srgbClr val="000000"/>
            </a:solidFill>
            <a:prstDash val="sysDot"/>
            <a:miter/>
          </a:ln>
        </p:spPr>
      </p:pic>
      <p:sp>
        <p:nvSpPr>
          <p:cNvPr id="268" name=""/>
          <p:cNvSpPr/>
          <p:nvPr/>
        </p:nvSpPr>
        <p:spPr>
          <a:xfrm>
            <a:off x="5908680" y="14472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Times New Roman"/>
              </a:rPr>
              <a:t>First months’ fore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97560" y="10519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0000"/>
                </a:solidFill>
                <a:latin typeface="Times New Roman"/>
              </a:rPr>
              <a:t>Last Months’ Fore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2901960" y="4724280"/>
            <a:ext cx="2525760" cy="15512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71" name=""/>
          <p:cNvSpPr/>
          <p:nvPr/>
        </p:nvSpPr>
        <p:spPr>
          <a:xfrm>
            <a:off x="3024360" y="630360"/>
            <a:ext cx="263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Tropical Pacific SSTA NCEP Fore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054240" y="4648320"/>
            <a:ext cx="2525760" cy="1550880"/>
          </a:xfrm>
          <a:prstGeom prst="rect">
            <a:avLst/>
          </a:prstGeom>
          <a:ln w="25560">
            <a:solidFill>
              <a:srgbClr val="000000"/>
            </a:solidFill>
            <a:prstDash val="sysDot"/>
            <a:miter/>
          </a:ln>
        </p:spPr>
      </p:pic>
      <p:pic>
        <p:nvPicPr>
          <p:cNvPr id="273" name="" descr="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3206880" y="4572000"/>
            <a:ext cx="2525760" cy="1550880"/>
          </a:xfrm>
          <a:prstGeom prst="rect">
            <a:avLst/>
          </a:prstGeom>
          <a:ln w="25560">
            <a:solidFill>
              <a:srgbClr val="000000"/>
            </a:solidFill>
            <a:prstDash val="sysDot"/>
            <a:miter/>
          </a:ln>
        </p:spPr>
      </p:pic>
      <p:sp>
        <p:nvSpPr>
          <p:cNvPr id="274" name=""/>
          <p:cNvSpPr/>
          <p:nvPr/>
        </p:nvSpPr>
        <p:spPr>
          <a:xfrm>
            <a:off x="5978520" y="5790600"/>
            <a:ext cx="189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Times New Roman"/>
              </a:rPr>
              <a:t>First month’s Fore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617148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0000"/>
                </a:solidFill>
                <a:latin typeface="Times New Roman"/>
              </a:rPr>
              <a:t>Last Months’ Fore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05920" y="23616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inal SSTA Forec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6343560"/>
            <a:ext cx="752616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Ocean Boundary Conditions used by CPTEC AGCM Seasonal Pred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7"/>
          <a:stretch/>
        </p:blipFill>
        <p:spPr>
          <a:xfrm>
            <a:off x="3235320" y="1447920"/>
            <a:ext cx="2523960" cy="154440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pic>
        <p:nvPicPr>
          <p:cNvPr id="279" name="" descr=""/>
          <p:cNvPicPr/>
          <p:nvPr/>
        </p:nvPicPr>
        <p:blipFill>
          <a:blip r:embed="rId8"/>
          <a:stretch/>
        </p:blipFill>
        <p:spPr>
          <a:xfrm>
            <a:off x="3305160" y="4495680"/>
            <a:ext cx="2524320" cy="15541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pic>
        <p:nvPicPr>
          <p:cNvPr id="280" name="" descr=""/>
          <p:cNvPicPr/>
          <p:nvPr/>
        </p:nvPicPr>
        <p:blipFill>
          <a:blip r:embed="rId9"/>
          <a:stretch/>
        </p:blipFill>
        <p:spPr>
          <a:xfrm>
            <a:off x="141120" y="2819520"/>
            <a:ext cx="2522880" cy="154440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pic>
        <p:nvPicPr>
          <p:cNvPr id="281" name="" descr=""/>
          <p:cNvPicPr/>
          <p:nvPr/>
        </p:nvPicPr>
        <p:blipFill>
          <a:blip r:embed="rId10">
            <a:lum bright="70000" contrast="-70000"/>
          </a:blip>
          <a:stretch/>
        </p:blipFill>
        <p:spPr>
          <a:xfrm>
            <a:off x="6259680" y="2743200"/>
            <a:ext cx="2523960" cy="154476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282" name=""/>
          <p:cNvSpPr/>
          <p:nvPr/>
        </p:nvSpPr>
        <p:spPr>
          <a:xfrm>
            <a:off x="2679840" y="4030200"/>
            <a:ext cx="351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Tropical Atlantic SSTA CCA Fore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0960" y="2400840"/>
            <a:ext cx="23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NCEP’s Global SS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53280" y="3489120"/>
            <a:ext cx="309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sisted SSTA over other oce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13040" y="3124080"/>
            <a:ext cx="3376800" cy="990720"/>
          </a:xfrm>
          <a:prstGeom prst="rightArrow">
            <a:avLst>
              <a:gd name="adj1" fmla="val 28528"/>
              <a:gd name="adj2" fmla="val 5931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1">
            <a:lum bright="70000" contrast="-70000"/>
          </a:blip>
          <a:stretch/>
        </p:blipFill>
        <p:spPr>
          <a:xfrm>
            <a:off x="6330960" y="2819520"/>
            <a:ext cx="2522520" cy="1544400"/>
          </a:xfrm>
          <a:prstGeom prst="rect">
            <a:avLst/>
          </a:prstGeom>
          <a:ln w="25560">
            <a:solidFill>
              <a:srgbClr val="000000"/>
            </a:solidFill>
            <a:prstDash val="sysDot"/>
            <a:miter/>
          </a:ln>
        </p:spPr>
      </p:pic>
      <p:pic>
        <p:nvPicPr>
          <p:cNvPr id="287" name="" descr=""/>
          <p:cNvPicPr/>
          <p:nvPr/>
        </p:nvPicPr>
        <p:blipFill>
          <a:blip r:embed="rId12">
            <a:lum bright="70000" contrast="-70000"/>
          </a:blip>
          <a:stretch/>
        </p:blipFill>
        <p:spPr>
          <a:xfrm>
            <a:off x="6400800" y="2895480"/>
            <a:ext cx="2523960" cy="1544760"/>
          </a:xfrm>
          <a:prstGeom prst="rect">
            <a:avLst/>
          </a:prstGeom>
          <a:ln w="25560">
            <a:solidFill>
              <a:srgbClr val="000000"/>
            </a:solidFill>
            <a:prstDash val="sysDot"/>
            <a:miter/>
          </a:ln>
        </p:spPr>
      </p:pic>
      <p:pic>
        <p:nvPicPr>
          <p:cNvPr id="288" name="" descr=""/>
          <p:cNvPicPr/>
          <p:nvPr/>
        </p:nvPicPr>
        <p:blipFill>
          <a:blip r:embed="rId13"/>
          <a:stretch/>
        </p:blipFill>
        <p:spPr>
          <a:xfrm>
            <a:off x="6470640" y="2971800"/>
            <a:ext cx="2523960" cy="154476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289" name=""/>
          <p:cNvSpPr/>
          <p:nvPr/>
        </p:nvSpPr>
        <p:spPr>
          <a:xfrm rot="10771200">
            <a:off x="912960" y="1371240"/>
            <a:ext cx="1758960" cy="835200"/>
          </a:xfrm>
          <a:custGeom>
            <a:avLst/>
            <a:gdLst>
              <a:gd name="textAreaLeft" fmla="*/ 779040 w 1758960"/>
              <a:gd name="textAreaRight" fmla="*/ 1467720 w 1758960"/>
              <a:gd name="textAreaTop" fmla="*/ 525960 h 835200"/>
              <a:gd name="textAreaBottom" fmla="*/ 6969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17181"/>
                </a:moveTo>
                <a:lnTo>
                  <a:pt x="13603" y="17181"/>
                </a:lnTo>
                <a:lnTo>
                  <a:pt x="13603" y="9569"/>
                </a:lnTo>
                <a:lnTo>
                  <a:pt x="10025" y="9569"/>
                </a:lnTo>
                <a:lnTo>
                  <a:pt x="15813" y="0"/>
                </a:lnTo>
                <a:lnTo>
                  <a:pt x="21600" y="9569"/>
                </a:lnTo>
                <a:lnTo>
                  <a:pt x="18022" y="9569"/>
                </a:lnTo>
                <a:lnTo>
                  <a:pt x="1802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rot="34200">
            <a:off x="771120" y="4870440"/>
            <a:ext cx="1898640" cy="918720"/>
          </a:xfrm>
          <a:custGeom>
            <a:avLst/>
            <a:gdLst>
              <a:gd name="textAreaLeft" fmla="*/ 841320 w 1898640"/>
              <a:gd name="textAreaRight" fmla="*/ 1584720 w 1898640"/>
              <a:gd name="textAreaTop" fmla="*/ 578520 h 918720"/>
              <a:gd name="textAreaBottom" fmla="*/ 766800 h 918720"/>
            </a:gdLst>
            <a:ahLst/>
            <a:rect l="textAreaLeft" t="textAreaTop" r="textAreaRight" b="textAreaBottom"/>
            <a:pathLst>
              <a:path w="21600" h="21600">
                <a:moveTo>
                  <a:pt x="0" y="17181"/>
                </a:moveTo>
                <a:lnTo>
                  <a:pt x="13603" y="17181"/>
                </a:lnTo>
                <a:lnTo>
                  <a:pt x="13603" y="9569"/>
                </a:lnTo>
                <a:lnTo>
                  <a:pt x="10025" y="9569"/>
                </a:lnTo>
                <a:lnTo>
                  <a:pt x="15813" y="0"/>
                </a:lnTo>
                <a:lnTo>
                  <a:pt x="21600" y="9569"/>
                </a:lnTo>
                <a:lnTo>
                  <a:pt x="18022" y="9569"/>
                </a:lnTo>
                <a:lnTo>
                  <a:pt x="1802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79400" y="1294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9400" y="556164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85800" y="76320"/>
            <a:ext cx="7803720" cy="608040"/>
            <a:chOff x="685800" y="76320"/>
            <a:chExt cx="7803720" cy="608040"/>
          </a:xfrm>
        </p:grpSpPr>
        <p:pic>
          <p:nvPicPr>
            <p:cNvPr id="294" name="" descr=""/>
            <p:cNvPicPr/>
            <p:nvPr/>
          </p:nvPicPr>
          <p:blipFill>
            <a:blip r:embed="rId14"/>
            <a:stretch/>
          </p:blipFill>
          <p:spPr>
            <a:xfrm>
              <a:off x="685800" y="123840"/>
              <a:ext cx="10047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634760" y="190440"/>
              <a:ext cx="61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Centro de Previsão de Tempo e Estudos Climát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15"/>
            <a:stretch/>
          </p:blipFill>
          <p:spPr>
            <a:xfrm>
              <a:off x="7786440" y="76320"/>
              <a:ext cx="703080" cy="56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ROJETO PIR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operação entre Brasil, França e EUA pa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r uma rede de bóias ancoradas no Atlântico Tropical, com arranjo  satisfatório para estudar os modos equatorial e meridional de variabilidade de TSM no Atlântico Trop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elecer uma base de dados necessária para estudar os principais modos de variabilidade do sistema acoplado oceano-atmosfera no Atlântico Trop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533520" y="309600"/>
          <a:ext cx="8610480" cy="66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9600"/>
                    <a:ext cx="8610480" cy="66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2771640" y="3573360"/>
            <a:ext cx="1152720" cy="180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57640" y="4408560"/>
            <a:ext cx="1429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90960" y="3673440"/>
            <a:ext cx="1429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476360" y="314280"/>
            <a:ext cx="648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ÃO SUDOESTE DA REDE PI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horia das previsões de TSM utilizando modelos acoplados oceano-atmosfera sobre o Atlântico Tropical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horia das previsões de anomalias pluviométricas sazonais sobre o Brasil utilizando modelos atmosféricos globais e regionai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iabilizar o estabelecimento de um sistema nacional de observações oceânicas sobre o Atlântico Tropical e Su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raestrutura logística oceânica (DHN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apacidade satelitária (INP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etência científica (IOUSP, CPTEC, FUNCEME, Universidades, Institutos de Pesquisa…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acilidades computacionais e de modelagem numérica disponíveis no CPTEC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í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iabilizar ao Brasil estabelecer programas observacionais no Atlântico Tropical e Sul de interesse para o desenvolvimento científico, econômico e social do Paí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rementar programas de cooperação internacional, através do uso de satélites brasileiros de coleta de dados sobre o Atlântico Tropical e oeste da Áf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TO PIRATA BRAS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ITE 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o Nobre – INPE (presid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son Campos – FUNCEME (vice-presid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ice Trotte – D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mo Campos – IOU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tivos PIRATA BRAS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2565000"/>
            <a:ext cx="763272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onitorar e fomentar o estudo do Oceano Atlântico Tropical e Sul com a finalidade de aprimorar as previsões de TSM sobre o Atlântico e seus impactos nas previsões climáticas sazonais sobre o Bras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tivos PIRATA BRAS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mentar o aumento da competência científica e tecnológica brasileira para o monitoramento e previsão de TSMs sobre o Atlântico Tropical e S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nologia de fundeio de bóias em águas profund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ricação e manutenção de bóias fundead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ibração de sensores meteorológicos e oceanográfic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eta de dados em tempo real com satélites brasilei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“backbone” origin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32040" y="1981080"/>
            <a:ext cx="547992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ÓIA AT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248440" cy="4371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784840" y="1600200"/>
            <a:ext cx="2914560" cy="4371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vio Oceanográfico ANT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604000" cy="5607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2640" y="652464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to, cortezia Dr. Marcio Via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157560" y="1986120"/>
          <a:ext cx="282888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7560" y="1986120"/>
                    <a:ext cx="282888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6431040" cy="13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e de bóias ancoradas do Projeto PIR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80" y="2895480"/>
            <a:ext cx="905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2819520"/>
            <a:ext cx="13968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540640" y="28256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34520" y="358128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6000" y="2852640"/>
            <a:ext cx="63360" cy="63720"/>
          </a:xfrm>
          <a:prstGeom prst="ellipse">
            <a:avLst/>
          </a:prstGeom>
          <a:solidFill>
            <a:srgbClr val="8b232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56360" y="3068640"/>
            <a:ext cx="63360" cy="63360"/>
          </a:xfrm>
          <a:prstGeom prst="ellipse">
            <a:avLst/>
          </a:prstGeom>
          <a:solidFill>
            <a:srgbClr val="8b232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9640" y="2708280"/>
            <a:ext cx="63360" cy="63360"/>
          </a:xfrm>
          <a:prstGeom prst="ellipse">
            <a:avLst/>
          </a:prstGeom>
          <a:solidFill>
            <a:srgbClr val="8b232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534520" y="327672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867280" y="1676520"/>
            <a:ext cx="146160" cy="1047240"/>
            <a:chOff x="5867280" y="1676520"/>
            <a:chExt cx="146160" cy="1047240"/>
          </a:xfrm>
        </p:grpSpPr>
        <p:sp>
          <p:nvSpPr>
            <p:cNvPr id="72" name=""/>
            <p:cNvSpPr/>
            <p:nvPr/>
          </p:nvSpPr>
          <p:spPr>
            <a:xfrm>
              <a:off x="5873760" y="1676520"/>
              <a:ext cx="139680" cy="1393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67280" y="2279520"/>
              <a:ext cx="139680" cy="1393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7280" y="1974600"/>
              <a:ext cx="139680" cy="1393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67280" y="2584440"/>
              <a:ext cx="139680" cy="1393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8534520" y="259092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534520" y="304812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281952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01000" y="281952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3213000"/>
            <a:ext cx="139680" cy="13968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84720" y="3789360"/>
            <a:ext cx="140040" cy="13968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067280" y="260280"/>
            <a:ext cx="5076720" cy="4392720"/>
            <a:chOff x="4067280" y="260280"/>
            <a:chExt cx="5076720" cy="4392720"/>
          </a:xfrm>
        </p:grpSpPr>
        <p:graphicFrame>
          <p:nvGraphicFramePr>
            <p:cNvPr id="83" name=""/>
            <p:cNvGraphicFramePr/>
            <p:nvPr/>
          </p:nvGraphicFramePr>
          <p:xfrm>
            <a:off x="7929720" y="260280"/>
            <a:ext cx="121428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929720" y="260280"/>
                      <a:ext cx="121428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"/>
            <p:cNvSpPr/>
            <p:nvPr/>
          </p:nvSpPr>
          <p:spPr>
            <a:xfrm>
              <a:off x="4067280" y="1357200"/>
              <a:ext cx="4825800" cy="32958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795640" y="901800"/>
              <a:ext cx="2660760" cy="51120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521560" y="836640"/>
              <a:ext cx="371520" cy="199548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435640" y="3933720"/>
            <a:ext cx="216000" cy="21276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32360" y="685800"/>
            <a:ext cx="3449520" cy="2527200"/>
            <a:chOff x="4932360" y="685800"/>
            <a:chExt cx="3449520" cy="2527200"/>
          </a:xfrm>
        </p:grpSpPr>
        <p:sp>
          <p:nvSpPr>
            <p:cNvPr id="90" name=""/>
            <p:cNvSpPr/>
            <p:nvPr/>
          </p:nvSpPr>
          <p:spPr>
            <a:xfrm>
              <a:off x="6012000" y="685800"/>
              <a:ext cx="2369880" cy="2311560"/>
            </a:xfrm>
            <a:custGeom>
              <a:avLst/>
              <a:gdLst/>
              <a:ahLst/>
              <a:rect l="l" t="t" r="r" b="b"/>
              <a:pathLst>
                <a:path w="1584" h="1584">
                  <a:moveTo>
                    <a:pt x="0" y="1584"/>
                  </a:moveTo>
                  <a:cubicBezTo>
                    <a:pt x="300" y="1208"/>
                    <a:pt x="600" y="832"/>
                    <a:pt x="720" y="720"/>
                  </a:cubicBezTo>
                  <a:cubicBezTo>
                    <a:pt x="840" y="608"/>
                    <a:pt x="688" y="912"/>
                    <a:pt x="720" y="912"/>
                  </a:cubicBezTo>
                  <a:cubicBezTo>
                    <a:pt x="752" y="912"/>
                    <a:pt x="768" y="872"/>
                    <a:pt x="912" y="720"/>
                  </a:cubicBezTo>
                  <a:cubicBezTo>
                    <a:pt x="1056" y="568"/>
                    <a:pt x="1320" y="284"/>
                    <a:pt x="1584" y="0"/>
                  </a:cubicBezTo>
                </a:path>
              </a:pathLst>
            </a:custGeom>
            <a:noFill/>
            <a:ln w="28440">
              <a:solidFill>
                <a:srgbClr val="00cc99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32360" y="692280"/>
              <a:ext cx="3306600" cy="2520720"/>
            </a:xfrm>
            <a:custGeom>
              <a:avLst/>
              <a:gdLst/>
              <a:ahLst/>
              <a:rect l="l" t="t" r="r" b="b"/>
              <a:pathLst>
                <a:path w="1584" h="1584">
                  <a:moveTo>
                    <a:pt x="0" y="1584"/>
                  </a:moveTo>
                  <a:cubicBezTo>
                    <a:pt x="300" y="1208"/>
                    <a:pt x="600" y="832"/>
                    <a:pt x="720" y="720"/>
                  </a:cubicBezTo>
                  <a:cubicBezTo>
                    <a:pt x="840" y="608"/>
                    <a:pt x="688" y="912"/>
                    <a:pt x="720" y="912"/>
                  </a:cubicBezTo>
                  <a:cubicBezTo>
                    <a:pt x="752" y="912"/>
                    <a:pt x="768" y="872"/>
                    <a:pt x="912" y="720"/>
                  </a:cubicBezTo>
                  <a:cubicBezTo>
                    <a:pt x="1056" y="568"/>
                    <a:pt x="1320" y="284"/>
                    <a:pt x="1584" y="0"/>
                  </a:cubicBezTo>
                </a:path>
              </a:pathLst>
            </a:custGeom>
            <a:noFill/>
            <a:ln w="28440">
              <a:solidFill>
                <a:srgbClr val="00cc99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859280" y="3284640"/>
            <a:ext cx="1007640" cy="720720"/>
            <a:chOff x="4859280" y="3284640"/>
            <a:chExt cx="1007640" cy="720720"/>
          </a:xfrm>
        </p:grpSpPr>
        <p:sp>
          <p:nvSpPr>
            <p:cNvPr id="93" name=""/>
            <p:cNvSpPr/>
            <p:nvPr/>
          </p:nvSpPr>
          <p:spPr>
            <a:xfrm>
              <a:off x="4859280" y="3429000"/>
              <a:ext cx="289080" cy="576360"/>
            </a:xfrm>
            <a:prstGeom prst="line">
              <a:avLst/>
            </a:prstGeom>
            <a:ln w="19080">
              <a:solidFill>
                <a:srgbClr val="ffff00"/>
              </a:solidFill>
              <a:prstDash val="dash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5219280" y="3284640"/>
              <a:ext cx="647640" cy="720720"/>
            </a:xfrm>
            <a:prstGeom prst="line">
              <a:avLst/>
            </a:prstGeom>
            <a:ln w="19080">
              <a:solidFill>
                <a:srgbClr val="ffff00"/>
              </a:solidFill>
              <a:prstDash val="dash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219640" y="4076640"/>
            <a:ext cx="289080" cy="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76720" y="3933720"/>
            <a:ext cx="216000" cy="2127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88000" y="3051000"/>
            <a:ext cx="266400" cy="377640"/>
            <a:chOff x="4788000" y="3051000"/>
            <a:chExt cx="266400" cy="377640"/>
          </a:xfrm>
        </p:grpSpPr>
        <p:sp>
          <p:nvSpPr>
            <p:cNvPr id="98" name=""/>
            <p:cNvSpPr/>
            <p:nvPr/>
          </p:nvSpPr>
          <p:spPr>
            <a:xfrm>
              <a:off x="4788000" y="3212280"/>
              <a:ext cx="172440" cy="2163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9452600">
              <a:off x="4873680" y="3068640"/>
              <a:ext cx="129600" cy="2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796000" y="2979720"/>
            <a:ext cx="267120" cy="377640"/>
            <a:chOff x="5796000" y="2979720"/>
            <a:chExt cx="267120" cy="377640"/>
          </a:xfrm>
        </p:grpSpPr>
        <p:sp>
          <p:nvSpPr>
            <p:cNvPr id="101" name=""/>
            <p:cNvSpPr/>
            <p:nvPr/>
          </p:nvSpPr>
          <p:spPr>
            <a:xfrm>
              <a:off x="5796000" y="3141000"/>
              <a:ext cx="172800" cy="2163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9452600">
              <a:off x="5882040" y="2997000"/>
              <a:ext cx="129960" cy="2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23:00:58Z</dcterms:created>
  <dc:creator>Paulo Nobre</dc:creator>
  <dc:description>1a Reunião do subcomitê de logística e operações do projeto PIRATA Brasil.
INPE/SJC, 19-20 de maio de 2003</dc:description>
  <dc:language>en-US</dc:language>
  <cp:lastModifiedBy>Paulo Nobre</cp:lastModifiedBy>
  <dcterms:modified xsi:type="dcterms:W3CDTF">2003-07-28T01:56:35Z</dcterms:modified>
  <cp:revision>12</cp:revision>
  <dc:subject/>
  <dc:title>PROJETO PIRATA  e sua importância para o Brasil</dc:title>
</cp:coreProperties>
</file>